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041-60CB-408A-BCDC-D56CE86C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0AD-FA18-47C0-B2F0-9AAC6D9E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3C8-1F58-410C-A4F9-070D1A4E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B47-50D5-4750-B8E0-FEAE68BB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7835-838C-419A-88BB-86C6A7EB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64F7-D2D5-45D5-98C5-E106BC02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E988-7209-4AA7-8ED2-B07EFA4C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9E63-B605-4682-87C7-26AD7BB3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8FA1-7DEE-4676-9A15-167B0C4E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B53E-43F2-4CB5-9DFB-D07351AE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C578-115C-4092-B82A-8528065A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FEE-1C1F-4A2E-8032-045293BE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27F7-800E-461D-8DAA-BD858D95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28A1-C0A8-443A-BF1E-0A3B711F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F8DE-0BE8-48CA-BD39-29B1E4A0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3DAE-FD2C-4867-8B5F-93E87854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156C-4800-40A5-9A7C-9FBF3CCD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69C-15BC-44B6-A8F6-BF1F0CE5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E4E-EC1F-45D0-9058-710B8EB4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410-77C0-436A-9AA2-4FCE3EB4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613-FC79-4401-8EDF-276B0AD8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0DE-1FA4-4302-A43D-3C1D35D6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497-AC71-4261-83C9-ADEA3BBB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0DF-AD05-4F33-A3A5-A389FECD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653760" indent="-25128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2" marL="1005840" indent="-200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3" marL="1407960" indent="-20088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4" marL="1810440" indent="-200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2933-EDD1-414E-BA2C-6ADEFE060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922C-FD1B-4B21-96D0-CB5B7ACB7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89604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343880" algn="ctr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4" marL="1792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5" marL="1792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6" marL="1792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Long, O Lord?”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Quarter 13, Lesson 12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Hebrews 11:1 – 12:17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ages 69-72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Challenges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ry to live in peace with everyone – v.14a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ek to live a clean and holy life –v.14b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on’t let bitterness take root –v.15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on’t sell your birthright for fornication or profane lifestyle, like Esau did -16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You will live in regret like him if you sell out now – v.17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From Last Lesson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Challenge – 10:19-39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pproach the throne of God -19-22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dvance the people of God – 23-25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void the judgment of God – 26-31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cknowledge the faithfulness of God – 32-39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oday’s Lesson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You Can Do More Than You Think By Faith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ople have done great things under lesser system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Faith is the victory for you too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Explanation of Faith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ts Nature – Heb.11:1-2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t is the confident assurance that what we hope for is going to happen – 11:1a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t is the evidence of things we cannot see – 1b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ts Necessity – 11:3,6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Examples of Faith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16 Named People of Faith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d things by faith under lesser opportunity than yours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What They Did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Gave acceptable offering to Go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uilt a huge barge (ark)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elieved God could raise the dea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fied the king of Egyp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Forsook pleasures of sin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ook great risk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ummary – 11:33-35a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Examples of Faith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16 Named People of Faith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id things by faith under lesser opportunity than your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hat They Di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hat they endured – 35b-38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errible torture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idicule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ruel Flogging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mprisonment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toning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eing sawn in two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eath by the sword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xtreme poverty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Examples of Faith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16 Named People of Faith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d things by faith under lesser opportunity than yours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What They Did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What they endured – 35b-38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Why they endured – v.10,13-15,16b,26,35c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y saw by faith the invisible city of Go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y valued it more than anything in the worl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y looked forward to their own resurrection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ee Them As Your Support Team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Contest Before Us – 12:1-4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Race – 12:1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Role Model – 12:2-3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Reassurance – 12:4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Your Father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Chastening of the Father’s Love – 12:5-13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lationship – 12:7b-10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minder -12:5a w/Prov.3:11-12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action –should be positive -5,7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asons – v.6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wards – 12:11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newal – 12:12-13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1:55:21Z</dcterms:created>
  <dc:creator>terrybenton</dc:creator>
  <dc:description/>
  <dc:language>en-US</dc:language>
  <cp:lastModifiedBy>terrybenton</cp:lastModifiedBy>
  <dcterms:modified xsi:type="dcterms:W3CDTF">2007-08-25T02:53:27Z</dcterms:modified>
  <cp:revision>3</cp:revision>
  <dc:subject/>
  <dc:title>“How Long, O Lord?”</dc:title>
</cp:coreProperties>
</file>